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11E5E-6A51-4297-BF4E-6C7F1F101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ECAFF-0BB1-4C99-BC03-2F4FA34A6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723DA-F80D-4C06-A991-7E185A637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70959-38D4-42A9-AC9D-0512597B7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D66E8-7A44-43BF-B5B8-F4945C796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6BF65-E871-4866-96ED-C321F5B36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294A7-8F35-4F5D-8EAA-CA428CF2D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08328-BC7B-4EFD-986A-3BCD80BCB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F4EBA-477B-4657-9867-F40463C02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43B1C-9A0E-40A6-BFD4-2F3C05BAB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7BBBE-5352-466F-989C-10AD22C41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848CE-07D5-459E-BA0B-6867377FC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98535-9CEA-427B-B9BC-690736BEBD39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Rectangle 3" descr=""/>
          <p:cNvPicPr/>
          <p:nvPr/>
        </p:nvPicPr>
        <p:blipFill>
          <a:blip r:embed="rId1"/>
          <a:stretch/>
        </p:blipFill>
        <p:spPr>
          <a:xfrm>
            <a:off x="1352520" y="1420920"/>
            <a:ext cx="6754680" cy="1157040"/>
          </a:xfrm>
          <a:prstGeom prst="rect">
            <a:avLst/>
          </a:prstGeom>
          <a:ln w="0">
            <a:noFill/>
          </a:ln>
        </p:spPr>
      </p:pic>
      <p:pic>
        <p:nvPicPr>
          <p:cNvPr id="42" name="Rectangle 4" descr=""/>
          <p:cNvPicPr/>
          <p:nvPr/>
        </p:nvPicPr>
        <p:blipFill>
          <a:blip r:embed="rId2"/>
          <a:stretch/>
        </p:blipFill>
        <p:spPr>
          <a:xfrm>
            <a:off x="2633760" y="2998800"/>
            <a:ext cx="3601800" cy="11462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" descr="http://t0.gstatic.com/images?q=tbn:ANd9GcSMRfGRMtEdLgvpQDWDCMI5NHShgX6FhOUmhZ6WEyDBjGSKBLJwn43jHw:www.hotchocolate10k.com/i/2009_ides10k_logo.gif"/>
          <p:cNvPicPr/>
          <p:nvPr/>
        </p:nvPicPr>
        <p:blipFill>
          <a:blip r:embed="rId3"/>
          <a:stretch/>
        </p:blipFill>
        <p:spPr>
          <a:xfrm>
            <a:off x="3643200" y="4572000"/>
            <a:ext cx="1424160" cy="182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Our Produc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Liquid Hot chocolate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advanced original packaging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squeezable tube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rick, milky flavour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Let us demonstrate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l.jpg"/>
          <p:cNvPicPr/>
          <p:nvPr/>
        </p:nvPicPr>
        <p:blipFill>
          <a:blip r:embed="rId1"/>
          <a:stretch/>
        </p:blipFill>
        <p:spPr>
          <a:xfrm>
            <a:off x="5072040" y="4000680"/>
            <a:ext cx="2792520" cy="13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Box 1"/>
          <p:cNvSpPr/>
          <p:nvPr/>
        </p:nvSpPr>
        <p:spPr>
          <a:xfrm>
            <a:off x="716400" y="785880"/>
            <a:ext cx="829008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2f2f2"/>
                </a:solidFill>
                <a:latin typeface="Calibri"/>
              </a:rPr>
              <a:t>Pages you could includ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2f2f2"/>
                </a:solidFill>
                <a:latin typeface="Calibri"/>
              </a:rPr>
              <a:t>Page 1 Introduce yourself, company and logo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2f2f2"/>
                </a:solidFill>
                <a:latin typeface="Calibri"/>
              </a:rPr>
              <a:t>Page 2 Introduce and explain your product/s and their special features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2f2f2"/>
                </a:solidFill>
                <a:latin typeface="Calibri"/>
              </a:rPr>
              <a:t>Page 3 Positive points about your product: eco friendly, eye catching design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2f2f2"/>
                </a:solidFill>
                <a:latin typeface="Calibri"/>
              </a:rPr>
              <a:t>Page 4 Who is your audience? Where do you see it being sold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2f2f2"/>
                </a:solidFill>
                <a:latin typeface="Calibri"/>
              </a:rPr>
              <a:t>Page 5  Market Research findings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2f2f2"/>
                </a:solidFill>
                <a:latin typeface="Calibri"/>
              </a:rPr>
              <a:t>Page 6 Quotes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2f2f2"/>
                </a:solidFill>
                <a:latin typeface="Calibri"/>
              </a:rPr>
              <a:t>Page 7 marketing ideas: TV, advertisement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0T07:29:31Z</dcterms:created>
  <dc:creator> </dc:creator>
  <dc:description/>
  <dc:language>en-US</dc:language>
  <cp:lastModifiedBy> </cp:lastModifiedBy>
  <dcterms:modified xsi:type="dcterms:W3CDTF">2012-10-10T09:16:02Z</dcterms:modified>
  <cp:revision>5</cp:revision>
  <dc:subject/>
  <dc:title>Slide 1</dc:title>
</cp:coreProperties>
</file>