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158413" cy="76327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FD21-5883-4724-AA11-B1C817D9D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06360"/>
            <a:ext cx="91440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781280"/>
            <a:ext cx="91440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412520"/>
            <a:ext cx="91440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DCFE-8158-4AD6-AAEF-242F1678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6360"/>
            <a:ext cx="91440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81280"/>
            <a:ext cx="44622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3720" y="1781280"/>
            <a:ext cx="44622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412520"/>
            <a:ext cx="44622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3720" y="4412520"/>
            <a:ext cx="44622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3374-0725-4F1A-84FC-05E0CCCA9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06360"/>
            <a:ext cx="91440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781280"/>
            <a:ext cx="294408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640" y="1781280"/>
            <a:ext cx="294408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1320" y="1781280"/>
            <a:ext cx="294408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412520"/>
            <a:ext cx="294408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640" y="4412520"/>
            <a:ext cx="294408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1320" y="4412520"/>
            <a:ext cx="294408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9567-86A9-4BF4-87E5-53B89ACA5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06360"/>
            <a:ext cx="91440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781280"/>
            <a:ext cx="9144000" cy="50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4A1E-5F3D-402F-8101-82B77344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6360"/>
            <a:ext cx="91440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1280"/>
            <a:ext cx="9144000" cy="50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45D3-2002-4477-ACB2-35431C4E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6360"/>
            <a:ext cx="91440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81280"/>
            <a:ext cx="4462200" cy="50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720" y="1781280"/>
            <a:ext cx="4462200" cy="50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4A57-8E4C-45B5-9910-3F42A501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06360"/>
            <a:ext cx="91440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34E3-F295-4E54-A813-63A6C6E3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06360"/>
            <a:ext cx="914400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CEC1-154B-4120-8E52-E0BE6E85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06360"/>
            <a:ext cx="91440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781280"/>
            <a:ext cx="44622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720" y="1781280"/>
            <a:ext cx="4462200" cy="50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412520"/>
            <a:ext cx="44622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A972-3C68-489D-8C17-1C9EBCE5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06360"/>
            <a:ext cx="91440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781280"/>
            <a:ext cx="4462200" cy="50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720" y="1781280"/>
            <a:ext cx="44622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3720" y="4412520"/>
            <a:ext cx="44622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D8FA-7138-48A0-8292-4EA2F2E2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06360"/>
            <a:ext cx="91440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781280"/>
            <a:ext cx="44622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3720" y="1781280"/>
            <a:ext cx="44622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412520"/>
            <a:ext cx="91440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0D3B-D8D3-4757-B316-33C2B437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06360"/>
            <a:ext cx="91440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1781280"/>
            <a:ext cx="9144000" cy="50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7960" y="7073640"/>
            <a:ext cx="237024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1840" y="7073640"/>
            <a:ext cx="321624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81720" y="7073640"/>
            <a:ext cx="237024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840A-68F5-475E-A9A5-EDE3414295D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bbc.co.uk/dragonsden/games/roleplay.shtml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nE6tTMDgEdA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2019240" y="355680"/>
            <a:ext cx="63248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 u="sng">
                <a:solidFill>
                  <a:srgbClr val="ff0000"/>
                </a:solidFill>
                <a:uFillTx/>
                <a:latin typeface="Showcard Gothic - 16"/>
              </a:rPr>
              <a:t>Argue, Persuade, advis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393840" y="1689120"/>
            <a:ext cx="97790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 u="sng">
                <a:solidFill>
                  <a:srgbClr val="000000"/>
                </a:solidFill>
                <a:uFillTx/>
                <a:latin typeface="Comic Sans MS - 24"/>
              </a:rPr>
              <a:t>Learning Objectiv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 u="sng">
                <a:solidFill>
                  <a:srgbClr val="000000"/>
                </a:solidFill>
                <a:uFillTx/>
                <a:latin typeface="Comic Sans MS - 24"/>
              </a:rPr>
              <a:t>1.</a:t>
            </a:r>
            <a:r>
              <a:rPr b="0" lang="en-GB" sz="2300" spc="-1" strike="noStrike">
                <a:solidFill>
                  <a:srgbClr val="000000"/>
                </a:solidFill>
                <a:latin typeface="Comic Sans MS - 24"/>
              </a:rPr>
              <a:t> To understand the difference between writing to argue, persuade and advise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lipboard.pn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486080" y="1200240"/>
            <a:ext cx="2874960" cy="26874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 rot="21120000">
            <a:off x="126720" y="469800"/>
            <a:ext cx="4089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00"/>
                </a:solidFill>
                <a:latin typeface="Showcard Gothic - 16"/>
              </a:rPr>
              <a:t>Spot the difference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clipboard(1).png"/>
          <p:cNvPicPr/>
          <p:nvPr/>
        </p:nvPicPr>
        <p:blipFill>
          <a:blip r:embed="rId2">
            <a:alphaModFix amt="0"/>
          </a:blip>
          <a:stretch/>
        </p:blipFill>
        <p:spPr>
          <a:xfrm rot="1221000">
            <a:off x="8176680" y="298080"/>
            <a:ext cx="1866960" cy="1843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lipboard(2).png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7277040" y="2476440"/>
            <a:ext cx="3032280" cy="3222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clipboard(3).png"/>
          <p:cNvPicPr/>
          <p:nvPr/>
        </p:nvPicPr>
        <p:blipFill>
          <a:blip r:embed="rId4">
            <a:alphaModFix amt="0"/>
          </a:blip>
          <a:stretch/>
        </p:blipFill>
        <p:spPr>
          <a:xfrm>
            <a:off x="254160" y="2908440"/>
            <a:ext cx="3881160" cy="3147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clipboard(4).png"/>
          <p:cNvPicPr/>
          <p:nvPr/>
        </p:nvPicPr>
        <p:blipFill>
          <a:blip r:embed="rId5">
            <a:alphaModFix amt="0"/>
          </a:blip>
          <a:stretch/>
        </p:blipFill>
        <p:spPr>
          <a:xfrm>
            <a:off x="4038480" y="114480"/>
            <a:ext cx="3502080" cy="3006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clipboard(5).png"/>
          <p:cNvPicPr/>
          <p:nvPr/>
        </p:nvPicPr>
        <p:blipFill>
          <a:blip r:embed="rId6">
            <a:alphaModFix amt="0"/>
          </a:blip>
          <a:stretch/>
        </p:blipFill>
        <p:spPr>
          <a:xfrm>
            <a:off x="4146480" y="3263760"/>
            <a:ext cx="3024360" cy="22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3301920" y="1054080"/>
            <a:ext cx="3657600" cy="36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700" spc="-1" strike="noStrike">
                <a:solidFill>
                  <a:srgbClr val="ff0000"/>
                </a:solidFill>
                <a:latin typeface="Stencil - 48"/>
              </a:rPr>
              <a:t>P</a:t>
            </a:r>
            <a:r>
              <a:rPr b="0" lang="en-GB" sz="4700" spc="-1" strike="noStrike">
                <a:solidFill>
                  <a:srgbClr val="0000ff"/>
                </a:solidFill>
                <a:latin typeface="Stencil - 48"/>
              </a:rPr>
              <a:t>urpose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700" spc="-1" strike="noStrike">
                <a:solidFill>
                  <a:srgbClr val="0000ff"/>
                </a:solidFill>
                <a:latin typeface="Stencil - 48"/>
              </a:rPr>
              <a:t>A</a:t>
            </a:r>
            <a:r>
              <a:rPr b="0" lang="en-GB" sz="4700" spc="-1" strike="noStrike">
                <a:solidFill>
                  <a:srgbClr val="800080"/>
                </a:solidFill>
                <a:latin typeface="Stencil - 48"/>
              </a:rPr>
              <a:t>udience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700" spc="-1" strike="noStrike">
                <a:solidFill>
                  <a:srgbClr val="800080"/>
                </a:solidFill>
                <a:latin typeface="Stencil - 48"/>
              </a:rPr>
              <a:t>F</a:t>
            </a:r>
            <a:r>
              <a:rPr b="1" lang="en-GB" sz="4700" spc="-1" strike="noStrike">
                <a:solidFill>
                  <a:srgbClr val="009300"/>
                </a:solidFill>
                <a:latin typeface="Stencil - 48"/>
              </a:rPr>
              <a:t>orm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1"/>
          <p:cNvSpPr/>
          <p:nvPr/>
        </p:nvSpPr>
        <p:spPr>
          <a:xfrm>
            <a:off x="291960" y="2527200"/>
            <a:ext cx="9817200" cy="2578320"/>
          </a:xfrm>
          <a:custGeom>
            <a:avLst/>
            <a:gdLst>
              <a:gd name="textAreaLeft" fmla="*/ 0 w 9817200"/>
              <a:gd name="textAreaRight" fmla="*/ 9817560 w 9817200"/>
              <a:gd name="textAreaTop" fmla="*/ 0 h 2578320"/>
              <a:gd name="textAreaBottom" fmla="*/ 2578680 h 2578320"/>
            </a:gdLst>
            <a:ahLst/>
            <a:rect l="textAreaLeft" t="textAreaTop" r="textAreaRight" b="textAreaBottom"/>
            <a:pathLst>
              <a:path w="9817101" h="2578101">
                <a:moveTo>
                  <a:pt x="0" y="0"/>
                </a:moveTo>
                <a:lnTo>
                  <a:pt x="9817100" y="0"/>
                </a:lnTo>
                <a:lnTo>
                  <a:pt x="9817100" y="2578100"/>
                </a:lnTo>
                <a:lnTo>
                  <a:pt x="0" y="2578100"/>
                </a:lnTo>
                <a:close/>
              </a:path>
            </a:pathLst>
          </a:custGeom>
          <a:solidFill>
            <a:srgbClr val="ffc0cb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939960" y="330120"/>
            <a:ext cx="84070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700" spc="-1" strike="noStrike">
                <a:solidFill>
                  <a:srgbClr val="ffad5b"/>
                </a:solidFill>
                <a:latin typeface="Showcard Gothic - 48"/>
              </a:rPr>
              <a:t>Argue, Persuade, Advise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380880" y="2819520"/>
            <a:ext cx="98553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omic Sans MS - 24"/>
              </a:rPr>
              <a:t>These are closely connected to each other and when you read a question, remember you need to identify what the purpose of your writing will be - it could be to argue, persuade or advise for example!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fb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190440" y="380880"/>
            <a:ext cx="9702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ff"/>
                </a:solidFill>
                <a:latin typeface="Showcard Gothic - 28"/>
              </a:rPr>
              <a:t>Each style of writing can have differences though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952560" y="2425680"/>
            <a:ext cx="8559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 - 24"/>
              </a:rPr>
              <a:t>If you argue, the writing tends to look at both sides and come to a conclus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 - 24"/>
              </a:rPr>
              <a:t>If you persuade, it tends to be one-sided, making your ideas the only sensible choic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 - 24"/>
              </a:rPr>
              <a:t>If you advise, it tends to be softer, guiding someone towards your idea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NBKTemp.pn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514440" y="2482920"/>
            <a:ext cx="279360" cy="279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NBKTemp(7283).png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501480" y="3753000"/>
            <a:ext cx="279720" cy="279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NBKTemp(9812).png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539640" y="5022720"/>
            <a:ext cx="27936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279360" y="2235240"/>
            <a:ext cx="1003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 - 24"/>
              </a:rPr>
              <a:t>Basically, what you write about could be the same thing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 - 24"/>
              </a:rPr>
              <a:t>You are </a:t>
            </a:r>
            <a:r>
              <a:rPr b="0" lang="en-GB" sz="2400" spc="-1" strike="noStrike">
                <a:solidFill>
                  <a:srgbClr val="ff0000"/>
                </a:solidFill>
                <a:latin typeface="Comic Sans MS - 24"/>
              </a:rPr>
              <a:t>aiming to get people to agree with you</a:t>
            </a:r>
            <a:r>
              <a:rPr b="0" lang="en-GB" sz="2400" spc="-1" strike="noStrike">
                <a:solidFill>
                  <a:srgbClr val="0000ff"/>
                </a:solidFill>
                <a:latin typeface="Comic Sans MS - 24"/>
              </a:rPr>
              <a:t> with all three of these styles of writing; it's just about</a:t>
            </a:r>
            <a:r>
              <a:rPr b="0" lang="en-GB" sz="2400" spc="-1" strike="noStrike">
                <a:solidFill>
                  <a:srgbClr val="4b0082"/>
                </a:solidFill>
                <a:latin typeface="Comic Sans MS - 24"/>
              </a:rPr>
              <a:t> HOW</a:t>
            </a:r>
            <a:r>
              <a:rPr b="0" lang="en-GB" sz="2400" spc="-1" strike="noStrike">
                <a:solidFill>
                  <a:srgbClr val="0000ff"/>
                </a:solidFill>
                <a:latin typeface="Comic Sans MS - 24"/>
              </a:rPr>
              <a:t> you make them agre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Freeform 2"/>
          <p:cNvSpPr/>
          <p:nvPr/>
        </p:nvSpPr>
        <p:spPr>
          <a:xfrm>
            <a:off x="1511280" y="177840"/>
            <a:ext cx="838080" cy="863640"/>
          </a:xfrm>
          <a:custGeom>
            <a:avLst/>
            <a:gdLst>
              <a:gd name="textAreaLeft" fmla="*/ 0 w 838080"/>
              <a:gd name="textAreaRight" fmla="*/ 838440 w 83808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838201" h="863601">
                <a:moveTo>
                  <a:pt x="838200" y="80390"/>
                </a:moveTo>
                <a:lnTo>
                  <a:pt x="239522" y="863600"/>
                </a:lnTo>
                <a:lnTo>
                  <a:pt x="0" y="550291"/>
                </a:lnTo>
                <a:lnTo>
                  <a:pt x="61594" y="469900"/>
                </a:lnTo>
                <a:lnTo>
                  <a:pt x="239522" y="702691"/>
                </a:lnTo>
                <a:lnTo>
                  <a:pt x="776604" y="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reeform 3"/>
          <p:cNvSpPr/>
          <p:nvPr/>
        </p:nvSpPr>
        <p:spPr>
          <a:xfrm>
            <a:off x="4863960" y="279360"/>
            <a:ext cx="889200" cy="927000"/>
          </a:xfrm>
          <a:custGeom>
            <a:avLst/>
            <a:gdLst>
              <a:gd name="textAreaLeft" fmla="*/ 0 w 889200"/>
              <a:gd name="textAreaRight" fmla="*/ 889560 w 889200"/>
              <a:gd name="textAreaTop" fmla="*/ 0 h 927000"/>
              <a:gd name="textAreaBottom" fmla="*/ 927360 h 927000"/>
            </a:gdLst>
            <a:ahLst/>
            <a:rect l="textAreaLeft" t="textAreaTop" r="textAreaRight" b="textAreaBottom"/>
            <a:pathLst>
              <a:path w="889001" h="927101">
                <a:moveTo>
                  <a:pt x="889000" y="86359"/>
                </a:moveTo>
                <a:lnTo>
                  <a:pt x="254000" y="927100"/>
                </a:lnTo>
                <a:lnTo>
                  <a:pt x="0" y="590803"/>
                </a:lnTo>
                <a:lnTo>
                  <a:pt x="65404" y="504444"/>
                </a:lnTo>
                <a:lnTo>
                  <a:pt x="254000" y="754380"/>
                </a:lnTo>
                <a:lnTo>
                  <a:pt x="823595" y="0"/>
                </a:lnTo>
                <a:close/>
              </a:path>
            </a:pathLst>
          </a:custGeom>
          <a:solidFill>
            <a:srgbClr val="7fffd4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Freeform 4"/>
          <p:cNvSpPr/>
          <p:nvPr/>
        </p:nvSpPr>
        <p:spPr>
          <a:xfrm>
            <a:off x="8826480" y="279360"/>
            <a:ext cx="749160" cy="914400"/>
          </a:xfrm>
          <a:custGeom>
            <a:avLst/>
            <a:gdLst>
              <a:gd name="textAreaLeft" fmla="*/ 0 w 749160"/>
              <a:gd name="textAreaRight" fmla="*/ 749520 w 7491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749301" h="914401">
                <a:moveTo>
                  <a:pt x="749300" y="85216"/>
                </a:moveTo>
                <a:lnTo>
                  <a:pt x="214121" y="914400"/>
                </a:lnTo>
                <a:lnTo>
                  <a:pt x="0" y="582675"/>
                </a:lnTo>
                <a:lnTo>
                  <a:pt x="55118" y="497586"/>
                </a:lnTo>
                <a:lnTo>
                  <a:pt x="214121" y="743966"/>
                </a:lnTo>
                <a:lnTo>
                  <a:pt x="694181" y="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Freeform 5"/>
          <p:cNvSpPr/>
          <p:nvPr/>
        </p:nvSpPr>
        <p:spPr>
          <a:xfrm>
            <a:off x="6756480" y="4572000"/>
            <a:ext cx="520560" cy="1066680"/>
          </a:xfrm>
          <a:custGeom>
            <a:avLst/>
            <a:gdLst>
              <a:gd name="textAreaLeft" fmla="*/ 0 w 520560"/>
              <a:gd name="textAreaRight" fmla="*/ 520920 w 52056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520701" h="1066801">
                <a:moveTo>
                  <a:pt x="520700" y="99314"/>
                </a:moveTo>
                <a:lnTo>
                  <a:pt x="148717" y="1066800"/>
                </a:lnTo>
                <a:lnTo>
                  <a:pt x="0" y="679830"/>
                </a:lnTo>
                <a:lnTo>
                  <a:pt x="38354" y="580516"/>
                </a:lnTo>
                <a:lnTo>
                  <a:pt x="148717" y="868045"/>
                </a:lnTo>
                <a:lnTo>
                  <a:pt x="482345" y="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Freeform 6"/>
          <p:cNvSpPr/>
          <p:nvPr/>
        </p:nvSpPr>
        <p:spPr>
          <a:xfrm>
            <a:off x="2273400" y="5334120"/>
            <a:ext cx="457200" cy="1295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457201" h="1295401">
                <a:moveTo>
                  <a:pt x="457200" y="120650"/>
                </a:moveTo>
                <a:lnTo>
                  <a:pt x="130682" y="1295400"/>
                </a:lnTo>
                <a:lnTo>
                  <a:pt x="0" y="825500"/>
                </a:lnTo>
                <a:lnTo>
                  <a:pt x="33654" y="704850"/>
                </a:lnTo>
                <a:lnTo>
                  <a:pt x="130682" y="1053972"/>
                </a:lnTo>
                <a:lnTo>
                  <a:pt x="423545" y="0"/>
                </a:lnTo>
                <a:close/>
              </a:path>
            </a:pathLst>
          </a:custGeom>
          <a:solidFill>
            <a:srgbClr val="00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Freeform 7"/>
          <p:cNvSpPr/>
          <p:nvPr/>
        </p:nvSpPr>
        <p:spPr>
          <a:xfrm>
            <a:off x="5384880" y="5715000"/>
            <a:ext cx="444600" cy="863640"/>
          </a:xfrm>
          <a:custGeom>
            <a:avLst/>
            <a:gdLst>
              <a:gd name="textAreaLeft" fmla="*/ 0 w 444600"/>
              <a:gd name="textAreaRight" fmla="*/ 444960 w 4446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444501" h="863601">
                <a:moveTo>
                  <a:pt x="444500" y="80390"/>
                </a:moveTo>
                <a:lnTo>
                  <a:pt x="127000" y="863600"/>
                </a:lnTo>
                <a:lnTo>
                  <a:pt x="0" y="550290"/>
                </a:lnTo>
                <a:lnTo>
                  <a:pt x="32639" y="469900"/>
                </a:lnTo>
                <a:lnTo>
                  <a:pt x="127000" y="702690"/>
                </a:lnTo>
                <a:lnTo>
                  <a:pt x="411860" y="0"/>
                </a:lnTo>
                <a:close/>
              </a:path>
            </a:pathLst>
          </a:custGeom>
          <a:solidFill>
            <a:srgbClr val="ff682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Freeform 8"/>
          <p:cNvSpPr/>
          <p:nvPr/>
        </p:nvSpPr>
        <p:spPr>
          <a:xfrm>
            <a:off x="6959520" y="1041480"/>
            <a:ext cx="673200" cy="1028520"/>
          </a:xfrm>
          <a:custGeom>
            <a:avLst/>
            <a:gdLst>
              <a:gd name="textAreaLeft" fmla="*/ 0 w 673200"/>
              <a:gd name="textAreaRight" fmla="*/ 673560 w 67320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673101" h="1028701">
                <a:moveTo>
                  <a:pt x="673100" y="95758"/>
                </a:moveTo>
                <a:lnTo>
                  <a:pt x="192278" y="1028700"/>
                </a:lnTo>
                <a:lnTo>
                  <a:pt x="0" y="655573"/>
                </a:lnTo>
                <a:lnTo>
                  <a:pt x="49530" y="559688"/>
                </a:lnTo>
                <a:lnTo>
                  <a:pt x="192278" y="837057"/>
                </a:lnTo>
                <a:lnTo>
                  <a:pt x="623569" y="0"/>
                </a:lnTo>
                <a:close/>
              </a:path>
            </a:pathLst>
          </a:custGeom>
          <a:solidFill>
            <a:srgbClr val="7b7bc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reeform 9"/>
          <p:cNvSpPr/>
          <p:nvPr/>
        </p:nvSpPr>
        <p:spPr>
          <a:xfrm>
            <a:off x="3048120" y="1041480"/>
            <a:ext cx="711000" cy="1003320"/>
          </a:xfrm>
          <a:custGeom>
            <a:avLst/>
            <a:gdLst>
              <a:gd name="textAreaLeft" fmla="*/ 0 w 711000"/>
              <a:gd name="textAreaRight" fmla="*/ 711360 w 71100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711201" h="1003301">
                <a:moveTo>
                  <a:pt x="711200" y="93472"/>
                </a:moveTo>
                <a:lnTo>
                  <a:pt x="203200" y="1003300"/>
                </a:lnTo>
                <a:lnTo>
                  <a:pt x="0" y="639317"/>
                </a:lnTo>
                <a:lnTo>
                  <a:pt x="52323" y="545972"/>
                </a:lnTo>
                <a:lnTo>
                  <a:pt x="203200" y="816355"/>
                </a:lnTo>
                <a:lnTo>
                  <a:pt x="658876" y="0"/>
                </a:lnTo>
                <a:close/>
              </a:path>
            </a:pathLst>
          </a:custGeom>
          <a:solidFill>
            <a:srgbClr val="ff682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Freeform 10"/>
          <p:cNvSpPr/>
          <p:nvPr/>
        </p:nvSpPr>
        <p:spPr>
          <a:xfrm>
            <a:off x="254160" y="1295280"/>
            <a:ext cx="749160" cy="635040"/>
          </a:xfrm>
          <a:custGeom>
            <a:avLst/>
            <a:gdLst>
              <a:gd name="textAreaLeft" fmla="*/ 0 w 749160"/>
              <a:gd name="textAreaRight" fmla="*/ 749520 w 749160"/>
              <a:gd name="textAreaTop" fmla="*/ 0 h 635040"/>
              <a:gd name="textAreaBottom" fmla="*/ 635040 h 635040"/>
            </a:gdLst>
            <a:ahLst/>
            <a:rect l="textAreaLeft" t="textAreaTop" r="textAreaRight" b="textAreaBottom"/>
            <a:pathLst>
              <a:path w="749301" h="635001">
                <a:moveTo>
                  <a:pt x="749300" y="59182"/>
                </a:moveTo>
                <a:lnTo>
                  <a:pt x="214122" y="635000"/>
                </a:lnTo>
                <a:lnTo>
                  <a:pt x="0" y="404622"/>
                </a:lnTo>
                <a:lnTo>
                  <a:pt x="55118" y="345567"/>
                </a:lnTo>
                <a:lnTo>
                  <a:pt x="214122" y="516635"/>
                </a:lnTo>
                <a:lnTo>
                  <a:pt x="694182" y="0"/>
                </a:lnTo>
                <a:close/>
              </a:path>
            </a:pathLst>
          </a:custGeom>
          <a:solidFill>
            <a:srgbClr val="32cd32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Freeform 11"/>
          <p:cNvSpPr/>
          <p:nvPr/>
        </p:nvSpPr>
        <p:spPr>
          <a:xfrm>
            <a:off x="8636040" y="5041800"/>
            <a:ext cx="901800" cy="1333440"/>
          </a:xfrm>
          <a:custGeom>
            <a:avLst/>
            <a:gdLst>
              <a:gd name="textAreaLeft" fmla="*/ 0 w 901800"/>
              <a:gd name="textAreaRight" fmla="*/ 902160 w 901800"/>
              <a:gd name="textAreaTop" fmla="*/ 0 h 1333440"/>
              <a:gd name="textAreaBottom" fmla="*/ 1333800 h 1333440"/>
            </a:gdLst>
            <a:ahLst/>
            <a:rect l="textAreaLeft" t="textAreaTop" r="textAreaRight" b="textAreaBottom"/>
            <a:pathLst>
              <a:path w="901701" h="1333501">
                <a:moveTo>
                  <a:pt x="901700" y="124205"/>
                </a:moveTo>
                <a:lnTo>
                  <a:pt x="257682" y="1333500"/>
                </a:lnTo>
                <a:lnTo>
                  <a:pt x="0" y="849757"/>
                </a:lnTo>
                <a:lnTo>
                  <a:pt x="66293" y="725551"/>
                </a:lnTo>
                <a:lnTo>
                  <a:pt x="257682" y="1084960"/>
                </a:lnTo>
                <a:lnTo>
                  <a:pt x="835406" y="0"/>
                </a:lnTo>
                <a:close/>
              </a:path>
            </a:pathLst>
          </a:custGeom>
          <a:solidFill>
            <a:srgbClr val="7b7bc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Freeform 12"/>
          <p:cNvSpPr/>
          <p:nvPr/>
        </p:nvSpPr>
        <p:spPr>
          <a:xfrm>
            <a:off x="406440" y="4546440"/>
            <a:ext cx="774720" cy="1257480"/>
          </a:xfrm>
          <a:custGeom>
            <a:avLst/>
            <a:gdLst>
              <a:gd name="textAreaLeft" fmla="*/ 0 w 774720"/>
              <a:gd name="textAreaRight" fmla="*/ 775080 w 774720"/>
              <a:gd name="textAreaTop" fmla="*/ 0 h 1257480"/>
              <a:gd name="textAreaBottom" fmla="*/ 1257840 h 1257480"/>
            </a:gdLst>
            <a:ahLst/>
            <a:rect l="textAreaLeft" t="textAreaTop" r="textAreaRight" b="textAreaBottom"/>
            <a:pathLst>
              <a:path w="774701" h="1257301">
                <a:moveTo>
                  <a:pt x="774700" y="117094"/>
                </a:moveTo>
                <a:lnTo>
                  <a:pt x="221361" y="1257300"/>
                </a:lnTo>
                <a:lnTo>
                  <a:pt x="0" y="801242"/>
                </a:lnTo>
                <a:lnTo>
                  <a:pt x="57023" y="684148"/>
                </a:lnTo>
                <a:lnTo>
                  <a:pt x="221361" y="1022984"/>
                </a:lnTo>
                <a:lnTo>
                  <a:pt x="717677" y="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Freeform 13"/>
          <p:cNvSpPr/>
          <p:nvPr/>
        </p:nvSpPr>
        <p:spPr>
          <a:xfrm>
            <a:off x="3949560" y="4584600"/>
            <a:ext cx="622440" cy="978120"/>
          </a:xfrm>
          <a:custGeom>
            <a:avLst/>
            <a:gdLst>
              <a:gd name="textAreaLeft" fmla="*/ 0 w 622440"/>
              <a:gd name="textAreaRight" fmla="*/ 622800 w 622440"/>
              <a:gd name="textAreaTop" fmla="*/ 0 h 978120"/>
              <a:gd name="textAreaBottom" fmla="*/ 978480 h 978120"/>
            </a:gdLst>
            <a:ahLst/>
            <a:rect l="textAreaLeft" t="textAreaTop" r="textAreaRight" b="textAreaBottom"/>
            <a:pathLst>
              <a:path w="622301" h="977901">
                <a:moveTo>
                  <a:pt x="622300" y="91059"/>
                </a:moveTo>
                <a:lnTo>
                  <a:pt x="177800" y="977900"/>
                </a:lnTo>
                <a:lnTo>
                  <a:pt x="0" y="623189"/>
                </a:lnTo>
                <a:lnTo>
                  <a:pt x="45720" y="532129"/>
                </a:lnTo>
                <a:lnTo>
                  <a:pt x="177800" y="795654"/>
                </a:lnTo>
                <a:lnTo>
                  <a:pt x="576579" y="0"/>
                </a:lnTo>
                <a:close/>
              </a:path>
            </a:pathLst>
          </a:custGeom>
          <a:solidFill>
            <a:srgbClr val="7fffd4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clipboard(6).png">
            <a:hlinkClick r:id="rId1"/>
          </p:cNvPr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88920" y="-63360"/>
            <a:ext cx="10029960" cy="5483160"/>
          </a:xfrm>
          <a:prstGeom prst="rect">
            <a:avLst/>
          </a:prstGeom>
          <a:ln w="0">
            <a:noFill/>
          </a:ln>
        </p:spPr>
      </p:pic>
      <p:sp>
        <p:nvSpPr>
          <p:cNvPr id="73" name="TextBox 2"/>
          <p:cNvSpPr/>
          <p:nvPr/>
        </p:nvSpPr>
        <p:spPr>
          <a:xfrm>
            <a:off x="2438280" y="38160"/>
            <a:ext cx="561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9300"/>
                </a:solidFill>
                <a:latin typeface="Showcard Gothic - 16"/>
              </a:rPr>
              <a:t>Dragons' De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177840" y="380880"/>
            <a:ext cx="96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Verdana - 24"/>
              </a:rPr>
              <a:t>What persuasive techniques do you know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reeform 2"/>
          <p:cNvSpPr/>
          <p:nvPr/>
        </p:nvSpPr>
        <p:spPr>
          <a:xfrm>
            <a:off x="673200" y="1066680"/>
            <a:ext cx="9083520" cy="4118040"/>
          </a:xfrm>
          <a:custGeom>
            <a:avLst/>
            <a:gdLst>
              <a:gd name="textAreaLeft" fmla="*/ 0 w 9083520"/>
              <a:gd name="textAreaRight" fmla="*/ 9083880 w 9083520"/>
              <a:gd name="textAreaTop" fmla="*/ 0 h 4118040"/>
              <a:gd name="textAreaBottom" fmla="*/ 4118400 h 4118040"/>
            </a:gdLst>
            <a:ahLst/>
            <a:rect l="textAreaLeft" t="textAreaTop" r="textAreaRight" b="textAreaBottom"/>
            <a:pathLst>
              <a:path w="9083421" h="4117722">
                <a:moveTo>
                  <a:pt x="0" y="0"/>
                </a:moveTo>
                <a:lnTo>
                  <a:pt x="9083420" y="0"/>
                </a:lnTo>
                <a:lnTo>
                  <a:pt x="9083420" y="4117721"/>
                </a:lnTo>
                <a:lnTo>
                  <a:pt x="0" y="4117721"/>
                </a:lnTo>
                <a:close/>
              </a:path>
            </a:pathLst>
          </a:custGeom>
          <a:solidFill>
            <a:srgbClr val="7fffd4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d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>
            <a:hlinkClick r:id="rId1"/>
          </p:cNvPr>
          <p:cNvSpPr/>
          <p:nvPr/>
        </p:nvSpPr>
        <p:spPr>
          <a:xfrm>
            <a:off x="254160" y="67320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Verdana - 36"/>
              </a:rPr>
              <a:t>Watch an example..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reeform 2"/>
          <p:cNvSpPr/>
          <p:nvPr/>
        </p:nvSpPr>
        <p:spPr>
          <a:xfrm>
            <a:off x="2070000" y="1930320"/>
            <a:ext cx="7742160" cy="3656160"/>
          </a:xfrm>
          <a:custGeom>
            <a:avLst/>
            <a:gdLst>
              <a:gd name="textAreaLeft" fmla="*/ 0 w 7742160"/>
              <a:gd name="textAreaRight" fmla="*/ 7742520 w 7742160"/>
              <a:gd name="textAreaTop" fmla="*/ 0 h 3656160"/>
              <a:gd name="textAreaBottom" fmla="*/ 3656520 h 3656160"/>
            </a:gdLst>
            <a:ahLst/>
            <a:rect l="textAreaLeft" t="textAreaTop" r="textAreaRight" b="textAreaBottom"/>
            <a:pathLst>
              <a:path w="7741667" h="3655949">
                <a:moveTo>
                  <a:pt x="0" y="0"/>
                </a:moveTo>
                <a:lnTo>
                  <a:pt x="7741666" y="0"/>
                </a:lnTo>
                <a:lnTo>
                  <a:pt x="7741666" y="3655948"/>
                </a:lnTo>
                <a:lnTo>
                  <a:pt x="0" y="3655948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40e0d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2374920" y="20829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800080"/>
                </a:solidFill>
                <a:uFillTx/>
                <a:latin typeface="Kristen ITC - 24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2311560" y="2857680"/>
            <a:ext cx="685800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ff"/>
                </a:solidFill>
                <a:latin typeface="Kristen ITC - 24"/>
              </a:rPr>
              <a:t>Note, in the back of your books, any of the persuasive techniques you see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ff"/>
                </a:solidFill>
                <a:latin typeface="Kristen ITC - 24"/>
              </a:rPr>
              <a:t>Ex</a:t>
            </a:r>
            <a:r>
              <a:rPr b="0" lang="en-GB" sz="2300" spc="-1" strike="noStrike" u="sng">
                <a:solidFill>
                  <a:srgbClr val="ff0000"/>
                </a:solidFill>
                <a:uFillTx/>
                <a:latin typeface="Kristen ITC - 24"/>
              </a:rPr>
              <a:t>tension:</a:t>
            </a:r>
            <a:r>
              <a:rPr b="0" lang="en-GB" sz="2300" spc="-1" strike="noStrike">
                <a:solidFill>
                  <a:srgbClr val="000000"/>
                </a:solidFill>
                <a:latin typeface="Kristen ITC - 24"/>
              </a:rPr>
              <a:t> </a:t>
            </a:r>
            <a:r>
              <a:rPr b="1" lang="en-GB" sz="2300" spc="-1" strike="noStrike">
                <a:solidFill>
                  <a:srgbClr val="480048"/>
                </a:solidFill>
                <a:latin typeface="Kristen ITC - 24"/>
              </a:rPr>
              <a:t>Identify other important techniques for a successful sales pitch, such as speaking and listening skill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12:04:31Z</dcterms:created>
  <dc:creator>jms</dc:creator>
  <dc:description/>
  <dc:language>en-US</dc:language>
  <cp:lastModifiedBy>jms</cp:lastModifiedBy>
  <dcterms:modified xsi:type="dcterms:W3CDTF">2010-04-23T12:04:35Z</dcterms:modified>
  <cp:revision>1</cp:revision>
  <dc:subject/>
  <dc:title>Slide 1</dc:title>
</cp:coreProperties>
</file>