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32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6BC-E1B8-44CC-AB3B-64C7900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B94-1C80-4687-8592-90872F0C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711-0B77-4849-B58F-D9EEC5B2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922-33D2-4DA4-828D-563B64B7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330-890B-4F3F-80C5-7DC6D18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EC9-C95E-4EE2-AD0A-A3EDE373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8CC-1E34-4208-9BFE-CA0217B8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2F8-C4FC-4BC6-B83D-13BE8487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6360"/>
            <a:ext cx="9144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2CC-E468-4CBD-8379-14E48034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F42-7E60-4774-88CF-C4B946D9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5F5-D91E-4790-BC53-5AEAE58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F2A-FBAF-45E7-85E8-76D873D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07364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701-A5F4-46EA-B79E-185E811587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06440" y="1270080"/>
            <a:ext cx="988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Kristen ITC - 24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Kristen ITC - 24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Kristen ITC - 24"/>
              </a:rPr>
              <a:t> To consolidate the understanding of argue, persuade, ad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 - 24"/>
              </a:rPr>
              <a:t>2. To begin utilising arguing and persuasive skills in team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266760" y="5076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0000"/>
                </a:solidFill>
                <a:uFillTx/>
                <a:latin typeface="Times New Roman - 16"/>
              </a:rPr>
              <a:t>Tas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54160" y="1879560"/>
            <a:ext cx="57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 - 24"/>
              </a:rPr>
              <a:t>Your team must design a product that is the next money-making scheme! Read the task sheets to ge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lipboard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499000" y="2197080"/>
            <a:ext cx="4521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36560" y="2019240"/>
            <a:ext cx="90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Showcard Gothic - 72"/>
              </a:rPr>
              <a:t>Any initial idea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05:20Z</dcterms:created>
  <dc:creator>jms</dc:creator>
  <dc:description/>
  <dc:language>en-US</dc:language>
  <cp:lastModifiedBy> </cp:lastModifiedBy>
  <dcterms:modified xsi:type="dcterms:W3CDTF">2012-07-06T09:39:40Z</dcterms:modified>
  <cp:revision>2</cp:revision>
  <dc:subject/>
  <dc:title>Slide 1</dc:title>
</cp:coreProperties>
</file>