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FC85F-5F4A-448E-9203-14755F1D8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413000" y="684360"/>
            <a:ext cx="3870360" cy="2590560"/>
          </a:xfrm>
          <a:prstGeom prst="rect">
            <a:avLst/>
          </a:prstGeom>
          <a:ln w="0">
            <a:noFill/>
          </a:ln>
        </p:spPr>
      </p:sp>
      <p:sp>
        <p:nvSpPr>
          <p:cNvPr id="171" name="PlaceHolder 2"/>
          <p:cNvSpPr>
            <a:spLocks noGrp="1"/>
          </p:cNvSpPr>
          <p:nvPr>
            <p:ph type="body"/>
          </p:nvPr>
        </p:nvSpPr>
        <p:spPr>
          <a:xfrm>
            <a:off x="333360" y="3564000"/>
            <a:ext cx="6191280" cy="52560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Curriculum Day this year is split into 3 areas of challenge – problem-solving, communication and physical. Each challenge will have a laminated card for the pupils to read from – they should be able to follow the instructions. Staff will be expected to sort out groups, give advice when necessary and supervise the activities for safety and cheating. </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All equipment will be available from the lower gym changing rooms, or from the activity site depending on the time of the day. </a:t>
            </a:r>
            <a:r>
              <a:rPr b="1" lang="en-GB" sz="1300" spc="-1" strike="noStrike">
                <a:solidFill>
                  <a:srgbClr val="000000"/>
                </a:solidFill>
                <a:latin typeface="Times New Roman"/>
              </a:rPr>
              <a:t>Can staff please ensure that any equipment they have used in lessons 3 and 5 is returned to the lower gym changing rooms 5 minutes before the end of the lesson.</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The problem-solving challenges are Radioactive Isotopes, Leaky Pipe, Cross the Swamp and Line Up. Split the group into 2 or 3 teams and they can rotate round challenges 1, 2 and 3. Use challenge 4 if you finish early. Give no more than 15 minutes on each challenge.</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The communication challenges are Centipede, Blindfold Obstacle Course, Call Your Partner and Square Dance. Split the group into 2. Send ½ out to do the Centipede and Call Your Partner challenges, and swap halfway through the lesson. Blindfold obstacle and centipede are the main activities, use the other 2 as fillers if you need to.</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The physical challenges are Orienteering, Get Knotted, Group Sit, Hoop Race and Rope Run. Orienteering will be done first, the group can work in pairs or threes. Use the other activities as fillers if they get bored of orienteering, or if they complete it early. </a:t>
            </a:r>
            <a:r>
              <a:rPr b="1" lang="en-GB" sz="1300" spc="-1" strike="noStrike">
                <a:solidFill>
                  <a:srgbClr val="000000"/>
                </a:solidFill>
                <a:latin typeface="Times New Roman"/>
              </a:rPr>
              <a:t>If you are doing orienteering lesson 5, ask pupils to collect in the controls by sending out groups to collect certain numbers about 10 min before the end of the lesson.</a:t>
            </a:r>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graphicFrame>
        <p:nvGraphicFramePr>
          <p:cNvPr id="191" name=""/>
          <p:cNvGraphicFramePr/>
          <p:nvPr/>
        </p:nvGraphicFramePr>
        <p:xfrm>
          <a:off x="765000" y="4500720"/>
          <a:ext cx="5256360" cy="4046400"/>
        </p:xfrm>
        <a:graphic>
          <a:graphicData uri="http://schemas.openxmlformats.org/drawingml/2006/table">
            <a:tbl>
              <a:tblPr/>
              <a:tblGrid>
                <a:gridCol w="1611360"/>
                <a:gridCol w="3645000"/>
              </a:tblGrid>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Equipment:</a:t>
                      </a:r>
                      <a:r>
                        <a:rPr b="0" lang="en-GB" sz="1200" spc="-1" strike="noStrike">
                          <a:solidFill>
                            <a:srgbClr val="000000"/>
                          </a:solidFill>
                          <a:latin typeface="Arial Unicode MS"/>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Maps, pencil, answer card, answer sheet</a:t>
                      </a:r>
                      <a:r>
                        <a:rPr b="0" lang="en-GB" sz="1200" spc="-1" strike="noStrike">
                          <a:solidFill>
                            <a:srgbClr val="000000"/>
                          </a:solidFill>
                          <a:latin typeface="Arial Unicode M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Organisation:</a:t>
                      </a:r>
                      <a:r>
                        <a:rPr b="0" lang="en-GB" sz="1200" spc="-1" strike="noStrike">
                          <a:solidFill>
                            <a:srgbClr val="000000"/>
                          </a:solidFill>
                          <a:latin typeface="Arial Unicode MS"/>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upils should organise themselves into pairs. They may work as a three if necessary. Each pupil needs to have an answer card and a pencil. First teach them how to set the map according to land marks and briefly explain the key features. Remind them they need to write down the correct answer next to the correct numb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If they find it too eas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Set them a time limi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If they find it too har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Give them guidance on spotting features, e.g. fences, trees, buildings, etc and encourage them to follow the features to guide them to the control.</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Ven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base for this activity will be in the foy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graphicFrame>
        <p:nvGraphicFramePr>
          <p:cNvPr id="193" name=""/>
          <p:cNvGraphicFramePr/>
          <p:nvPr/>
        </p:nvGraphicFramePr>
        <p:xfrm>
          <a:off x="765000" y="4643280"/>
          <a:ext cx="5256360" cy="2862360"/>
        </p:xfrm>
        <a:graphic>
          <a:graphicData uri="http://schemas.openxmlformats.org/drawingml/2006/table">
            <a:tbl>
              <a:tblPr/>
              <a:tblGrid>
                <a:gridCol w="1611360"/>
                <a:gridCol w="3645000"/>
              </a:tblGrid>
              <a:tr h="48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Equipment:</a:t>
                      </a: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Ropes</a:t>
                      </a: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5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Organisation:</a:t>
                      </a: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They need to be in teams of 4, with one rope per grou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If they find it too eas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Make them use a longer rope</a:t>
                      </a:r>
                      <a:endParaRPr b="0" lang="en-US" sz="12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Give them a time limit to untie the kno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If they find it too har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Give them less time to tie the knots, and more time to untie them</a:t>
                      </a:r>
                      <a:endParaRPr b="0" lang="en-US" sz="12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Ven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The base for this activity will be in the foy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graphicFrame>
        <p:nvGraphicFramePr>
          <p:cNvPr id="195" name=""/>
          <p:cNvGraphicFramePr/>
          <p:nvPr/>
        </p:nvGraphicFramePr>
        <p:xfrm>
          <a:off x="765000" y="4643280"/>
          <a:ext cx="5256360" cy="3165480"/>
        </p:xfrm>
        <a:graphic>
          <a:graphicData uri="http://schemas.openxmlformats.org/drawingml/2006/table">
            <a:tbl>
              <a:tblPr/>
              <a:tblGrid>
                <a:gridCol w="1611360"/>
                <a:gridCol w="364500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Equipment:</a:t>
                      </a: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Non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Organisation:</a:t>
                      </a: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They need to stand in a tight circle. One person should be the leader. They all need to face the same way and sit at precisely the same time. They will fall over if they don’t work as a tea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If they find it too eas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Get them to sit then stand again without falling over.</a:t>
                      </a:r>
                      <a:endParaRPr b="0" lang="en-US" sz="12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If they find it too har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Allow some members of the group to come out of the circle to act as a support for their team mates.</a:t>
                      </a:r>
                      <a:endParaRPr b="0" lang="en-US" sz="12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Ven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The base for this activity will be in the foyer. If it’s nice out you could go onto the gra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graphicFrame>
        <p:nvGraphicFramePr>
          <p:cNvPr id="197" name=""/>
          <p:cNvGraphicFramePr/>
          <p:nvPr/>
        </p:nvGraphicFramePr>
        <p:xfrm>
          <a:off x="765000" y="4643280"/>
          <a:ext cx="5256360" cy="3530880"/>
        </p:xfrm>
        <a:graphic>
          <a:graphicData uri="http://schemas.openxmlformats.org/drawingml/2006/table">
            <a:tbl>
              <a:tblPr/>
              <a:tblGrid>
                <a:gridCol w="1611360"/>
                <a:gridCol w="3645000"/>
              </a:tblGrid>
              <a:tr h="43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Equipment:</a:t>
                      </a: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oop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Organisation:</a:t>
                      </a: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You need to split the group into 2 equal teams. They must make a circle and hold hands. slip the hoop over the arms of one pair and get them to join hands again. The teams have to work together to move the hoop round the circle, stepping into it and pulling it over their head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If they find it too eas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Make it a race between teams</a:t>
                      </a:r>
                      <a:endParaRPr b="0" lang="en-US" sz="12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Get them to do it in the opposite direc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If they find it too har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Allow them to use their hands to move the hoop, so long as they don’t let g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Ven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The base for this activity will be in the foyer. If it’s nice out you could go onto the gra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graphicFrame>
        <p:nvGraphicFramePr>
          <p:cNvPr id="199" name=""/>
          <p:cNvGraphicFramePr/>
          <p:nvPr/>
        </p:nvGraphicFramePr>
        <p:xfrm>
          <a:off x="765000" y="4643280"/>
          <a:ext cx="5256360" cy="3165480"/>
        </p:xfrm>
        <a:graphic>
          <a:graphicData uri="http://schemas.openxmlformats.org/drawingml/2006/table">
            <a:tbl>
              <a:tblPr/>
              <a:tblGrid>
                <a:gridCol w="1611360"/>
                <a:gridCol w="3645000"/>
              </a:tblGrid>
              <a:tr h="48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Equipment:</a:t>
                      </a: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Long rope</a:t>
                      </a:r>
                      <a:r>
                        <a:rPr b="0" lang="en-U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Organisation:</a:t>
                      </a: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2 people  to turn the rope at an even pace. Pupils need to run under the rope to the other side. When they run in pairs, 4’s and 8’s they should hold hands, or link arm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If they find it too eas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Run under and jump once or twice before exi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If they find it too har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Remind them they need to communicate with each other.</a:t>
                      </a:r>
                      <a:endParaRPr b="0" lang="en-US" sz="12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Turn the rope more slowly, with lots of heigh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Ven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The base for this activity will be in the foyer. If it’s nice out you could go onto the gra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aphicFrame>
        <p:nvGraphicFramePr>
          <p:cNvPr id="174" name=""/>
          <p:cNvGraphicFramePr/>
          <p:nvPr/>
        </p:nvGraphicFramePr>
        <p:xfrm>
          <a:off x="765000" y="4427640"/>
          <a:ext cx="5327640" cy="3816000"/>
        </p:xfrm>
        <a:graphic>
          <a:graphicData uri="http://schemas.openxmlformats.org/drawingml/2006/table">
            <a:tbl>
              <a:tblPr/>
              <a:tblGrid>
                <a:gridCol w="1674720"/>
                <a:gridCol w="3652920"/>
              </a:tblGrid>
              <a:tr h="57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Equipmen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2 buckets, one with ropes tied onto it plastic balls, co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2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Organisa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upils take up places around the bucket, each picking up a rope. They work as a team to tip the balls into the bucket. They cannot come inside the circle of con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If they find it too eas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ake away every ball that doesn’t get into the bucket</a:t>
                      </a:r>
                      <a:endParaRPr b="0" lang="en-US" sz="12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Give them a time limit</a:t>
                      </a:r>
                      <a:endParaRPr b="0" lang="en-US" sz="12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ake away a couple of rop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If they find it really har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Let them get closer</a:t>
                      </a:r>
                      <a:endParaRPr b="0" lang="en-US" sz="12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ell them they can swap places and move around with the rop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6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Venue:</a:t>
                      </a:r>
                      <a:r>
                        <a:rPr b="0" lang="en-GB" sz="1200" spc="-1" strike="noStrike">
                          <a:solidFill>
                            <a:srgbClr val="000000"/>
                          </a:solidFill>
                          <a:latin typeface="Arial Unicode MS"/>
                        </a:rPr>
                        <a:t>	</a:t>
                      </a:r>
                      <a:r>
                        <a:rPr b="0" lang="en-GB" sz="1200" spc="-1" strike="noStrike">
                          <a:solidFill>
                            <a:srgbClr val="000000"/>
                          </a:solidFill>
                          <a:latin typeface="Arial Unicode MS"/>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Netball Cour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graphicFrame>
        <p:nvGraphicFramePr>
          <p:cNvPr id="176" name=""/>
          <p:cNvGraphicFramePr/>
          <p:nvPr/>
        </p:nvGraphicFramePr>
        <p:xfrm>
          <a:off x="765000" y="4427640"/>
          <a:ext cx="5256360" cy="3835440"/>
        </p:xfrm>
        <a:graphic>
          <a:graphicData uri="http://schemas.openxmlformats.org/drawingml/2006/table">
            <a:tbl>
              <a:tblPr/>
              <a:tblGrid>
                <a:gridCol w="1800360"/>
                <a:gridCol w="3456000"/>
              </a:tblGrid>
              <a:tr h="54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Equipmen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Bucket, water, drainpipe, table tennis ball, cup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Organisa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upils will  need to fill the bucket first (from the water taps in the foyer). They need to work together to carry the water from the bucket to the drainpipe in order to fill it and float the table tennis ball to the top. The drainpipe has holes drilled in it, so they will have to plug the holes as the water gets high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If they find it too eas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Make it into a race.</a:t>
                      </a:r>
                      <a:endParaRPr b="0" lang="en-US" sz="12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ell them they can only collect the water in a relay forma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If they find it too har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Use tape to cover up a couple of the hol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Ven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Rear picnic area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graphicFrame>
        <p:nvGraphicFramePr>
          <p:cNvPr id="178" name=""/>
          <p:cNvGraphicFramePr/>
          <p:nvPr/>
        </p:nvGraphicFramePr>
        <p:xfrm>
          <a:off x="620640" y="4284720"/>
          <a:ext cx="5545080" cy="3693960"/>
        </p:xfrm>
        <a:graphic>
          <a:graphicData uri="http://schemas.openxmlformats.org/drawingml/2006/table">
            <a:tbl>
              <a:tblPr/>
              <a:tblGrid>
                <a:gridCol w="1728720"/>
                <a:gridCol w="381636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Equipment:</a:t>
                      </a:r>
                      <a:r>
                        <a:rPr b="0" lang="en-GB" sz="1200" spc="-1" strike="noStrike">
                          <a:solidFill>
                            <a:srgbClr val="000000"/>
                          </a:solidFill>
                          <a:latin typeface="Arial Unicode MS"/>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yres or spots, cones to mark out the area, equipment to carr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Organisa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y can work in 1 big team or 2 smaller teams. They cannot step into the ‘swamp’. In order to cross it they can only step on the tyres or the spots. They must work as a team to get all the equipment, and  more importantly every member of their team across to the other sid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If they find it too eas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Make it a race between teams</a:t>
                      </a:r>
                      <a:endParaRPr b="0" lang="en-US" sz="12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Remove equipment if it is dropped.</a:t>
                      </a:r>
                      <a:endParaRPr b="0" lang="en-US" sz="12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Remove team members if they step in the ‘swamp’</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If they find it too har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llow them to start again if a team member steps into the ‘swamp’</a:t>
                      </a:r>
                      <a:endParaRPr b="0" lang="en-US" sz="12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llow them to carry less equipment</a:t>
                      </a:r>
                      <a:endParaRPr b="0" lang="en-US" sz="12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ell them it is not a race, but a teamwork challeng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Ven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Netball Cour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graphicFrame>
        <p:nvGraphicFramePr>
          <p:cNvPr id="180" name=""/>
          <p:cNvGraphicFramePr/>
          <p:nvPr/>
        </p:nvGraphicFramePr>
        <p:xfrm>
          <a:off x="765000" y="4572000"/>
          <a:ext cx="5400720" cy="3701880"/>
        </p:xfrm>
        <a:graphic>
          <a:graphicData uri="http://schemas.openxmlformats.org/drawingml/2006/table">
            <a:tbl>
              <a:tblPr/>
              <a:tblGrid>
                <a:gridCol w="1806840"/>
                <a:gridCol w="3593880"/>
              </a:tblGrid>
              <a:tr h="406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Equipment:</a:t>
                      </a:r>
                      <a:r>
                        <a:rPr b="0" lang="en-GB" sz="1200" spc="-1" strike="noStrike">
                          <a:solidFill>
                            <a:srgbClr val="000000"/>
                          </a:solidFill>
                          <a:latin typeface="Arial Unicode MS"/>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Benches, blindfold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0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Organisation:</a:t>
                      </a:r>
                      <a:r>
                        <a:rPr b="0" lang="en-GB" sz="1200" spc="-1" strike="noStrike">
                          <a:solidFill>
                            <a:srgbClr val="000000"/>
                          </a:solidFill>
                          <a:latin typeface="Arial Unicode MS"/>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Split the group into 3 equal teams. Each team must stand on their bench and organise themselves into the order you tell them. Use date of birth, height, house number, first initial, etc. If anyone falls off, the team should start agai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If they find it too eas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Make them do it without speaking to each other.</a:t>
                      </a:r>
                      <a:endParaRPr b="0" lang="en-US" sz="12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Blindfold a member of the te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If they find it too har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ell them to hold onto each other as they  mov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Ven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Lower Gym or use the picnic benches around the netball cour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
          <p:cNvSpPr/>
          <p:nvPr/>
        </p:nvSpPr>
        <p:spPr>
          <a:xfrm>
            <a:off x="1130400" y="4559400"/>
            <a:ext cx="50292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graphicFrame>
        <p:nvGraphicFramePr>
          <p:cNvPr id="183" name=""/>
          <p:cNvGraphicFramePr/>
          <p:nvPr/>
        </p:nvGraphicFramePr>
        <p:xfrm>
          <a:off x="692280" y="4427640"/>
          <a:ext cx="5400720" cy="3855960"/>
        </p:xfrm>
        <a:graphic>
          <a:graphicData uri="http://schemas.openxmlformats.org/drawingml/2006/table">
            <a:tbl>
              <a:tblPr/>
              <a:tblGrid>
                <a:gridCol w="1728720"/>
                <a:gridCol w="367200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Equipment:</a:t>
                      </a:r>
                      <a:r>
                        <a:rPr b="0" lang="en-GB" sz="1200" spc="-1" strike="noStrike">
                          <a:solidFill>
                            <a:srgbClr val="000000"/>
                          </a:solidFill>
                          <a:latin typeface="Arial Unicode MS"/>
                        </a:rPr>
                        <a:t>	</a:t>
                      </a:r>
                      <a:r>
                        <a:rPr b="0" lang="en-GB" sz="1200" spc="-1" strike="noStrike">
                          <a:solidFill>
                            <a:srgbClr val="000000"/>
                          </a:solidFill>
                          <a:latin typeface="Arial Unicode MS"/>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lanks and rop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Organisation:</a:t>
                      </a:r>
                      <a:r>
                        <a:rPr b="0" lang="en-GB" sz="1200" spc="-1" strike="noStrike">
                          <a:solidFill>
                            <a:srgbClr val="000000"/>
                          </a:solidFill>
                          <a:latin typeface="Arial Unicode MS"/>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Split the group into 3 (max) equal teams of 4-5 people. They should each stand on the planks so that they have one foot on each plank.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DO NOT LET THEM TIE THE ROPES AROUND THEIR FEET OR LEG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y have to work together to ‘walk’ to the finish line pulling on the ropes as they attempt to lift the plank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If they find it too eas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Make it into a race.</a:t>
                      </a:r>
                      <a:endParaRPr b="0" lang="en-US" sz="12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Include a corner to their ‘race track’</a:t>
                      </a:r>
                      <a:endParaRPr b="0" lang="en-US" sz="12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ll members off the team should be on the plank, even if there aren’t enough ropes for the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If they find it too har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Give them chance to practice.</a:t>
                      </a:r>
                      <a:endParaRPr b="0" lang="en-US" sz="12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llow spare team members who cannot hold onto the ropes to be coach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Ven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Netball Cour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graphicFrame>
        <p:nvGraphicFramePr>
          <p:cNvPr id="185" name=""/>
          <p:cNvGraphicFramePr/>
          <p:nvPr/>
        </p:nvGraphicFramePr>
        <p:xfrm>
          <a:off x="765000" y="4500720"/>
          <a:ext cx="5256360" cy="3441600"/>
        </p:xfrm>
        <a:graphic>
          <a:graphicData uri="http://schemas.openxmlformats.org/drawingml/2006/table">
            <a:tbl>
              <a:tblPr/>
              <a:tblGrid>
                <a:gridCol w="1611720"/>
                <a:gridCol w="3644640"/>
              </a:tblGrid>
              <a:tr h="5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Equipment:</a:t>
                      </a:r>
                      <a:r>
                        <a:rPr b="0" lang="en-GB" sz="1200" spc="-1" strike="noStrike">
                          <a:solidFill>
                            <a:srgbClr val="000000"/>
                          </a:solidFill>
                          <a:latin typeface="Arial Unicode MS"/>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pparatus in gym, blindfold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Organisation:</a:t>
                      </a:r>
                      <a:r>
                        <a:rPr b="0" lang="en-GB" sz="1200" spc="-1" strike="noStrike">
                          <a:solidFill>
                            <a:srgbClr val="000000"/>
                          </a:solidFill>
                          <a:latin typeface="Arial Unicode MS"/>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upils should work in pairs. They will take it in turns to lead each other around the circuit. Tell them not to lead their partner into any dangerous situations, e.g. too high or unstable surfa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If they find it too eas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Get them to use only verbal communication or only non-verbal communic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If they find it too har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llow them to use a mixture of verbal and non-verbal communic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Ven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Lower Gy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graphicFrame>
        <p:nvGraphicFramePr>
          <p:cNvPr id="187" name=""/>
          <p:cNvGraphicFramePr/>
          <p:nvPr/>
        </p:nvGraphicFramePr>
        <p:xfrm>
          <a:off x="765000" y="4500720"/>
          <a:ext cx="5256360" cy="3109680"/>
        </p:xfrm>
        <a:graphic>
          <a:graphicData uri="http://schemas.openxmlformats.org/drawingml/2006/table">
            <a:tbl>
              <a:tblPr/>
              <a:tblGrid>
                <a:gridCol w="1611360"/>
                <a:gridCol w="3645000"/>
              </a:tblGrid>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Equipment:</a:t>
                      </a:r>
                      <a:r>
                        <a:rPr b="0" lang="en-GB" sz="1200" spc="-1" strike="noStrike">
                          <a:solidFill>
                            <a:srgbClr val="000000"/>
                          </a:solidFill>
                          <a:latin typeface="Arial Unicode MS"/>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Blindfolds</a:t>
                      </a:r>
                      <a:r>
                        <a:rPr b="0" lang="en-GB" sz="1200" spc="-1" strike="noStrike">
                          <a:solidFill>
                            <a:srgbClr val="000000"/>
                          </a:solidFill>
                          <a:latin typeface="Arial Unicode MS"/>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Organisation:</a:t>
                      </a:r>
                      <a:r>
                        <a:rPr b="0" lang="en-GB" sz="1200" spc="-1" strike="noStrike">
                          <a:solidFill>
                            <a:srgbClr val="000000"/>
                          </a:solidFill>
                          <a:latin typeface="Arial Unicode MS"/>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upils get into pairs. One of them is blindfolded and stands across the way from their partner. Their partner calls to them, giving instructions so that their partner can reach them firs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If they find it too eas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y have to come up with alternative form of communication to signal left, right, stop, etc. E.g. Clapping</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If they find it too har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llow the sighted partner to come closer to their partner and lead them to a certain area instea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Ven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BC (either front picnic area or beyond fence at back of netball cour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graphicFrame>
        <p:nvGraphicFramePr>
          <p:cNvPr id="189" name=""/>
          <p:cNvGraphicFramePr/>
          <p:nvPr/>
        </p:nvGraphicFramePr>
        <p:xfrm>
          <a:off x="765000" y="4500720"/>
          <a:ext cx="5256360" cy="3657600"/>
        </p:xfrm>
        <a:graphic>
          <a:graphicData uri="http://schemas.openxmlformats.org/drawingml/2006/table">
            <a:tbl>
              <a:tblPr/>
              <a:tblGrid>
                <a:gridCol w="1611360"/>
                <a:gridCol w="3645000"/>
              </a:tblGrid>
              <a:tr h="33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Equipment:</a:t>
                      </a:r>
                      <a:r>
                        <a:rPr b="0" lang="en-GB" sz="1200" spc="-1" strike="noStrike">
                          <a:solidFill>
                            <a:srgbClr val="000000"/>
                          </a:solidFill>
                          <a:latin typeface="Arial Unicode MS"/>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Long rope, blindfold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Organisation:</a:t>
                      </a:r>
                      <a:r>
                        <a:rPr b="0" lang="en-GB" sz="1200" spc="-1" strike="noStrike">
                          <a:solidFill>
                            <a:srgbClr val="000000"/>
                          </a:solidFill>
                          <a:latin typeface="Arial Unicode MS"/>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Start the group off in a straight line. You will need to put the rope in to each team member’s hands. They are not allowed to</a:t>
                      </a:r>
                      <a:r>
                        <a:rPr b="0" lang="en-GB" sz="1200" spc="-1" strike="noStrike">
                          <a:solidFill>
                            <a:srgbClr val="000000"/>
                          </a:solidFill>
                          <a:latin typeface="Arial Unicode MS"/>
                        </a:rPr>
                        <a:t>	</a:t>
                      </a:r>
                      <a:r>
                        <a:rPr b="0" lang="en-GB" sz="1200" spc="-1" strike="noStrike">
                          <a:solidFill>
                            <a:srgbClr val="000000"/>
                          </a:solidFill>
                          <a:latin typeface="Arial Unicode MS"/>
                        </a:rPr>
                        <a:t> peek until you tell them they’re finished. They have to communicate effectively to move each team member into position so the rope forms a squar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If they find it too eas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Set them a time limi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If they find it too hard:</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llow one member of the team to be sighted and take on a leadership role</a:t>
                      </a:r>
                      <a:endParaRPr b="0" lang="en-US" sz="12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ell them to work out beforehand who will be the corners and how many will need to fill in the sid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Ven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Netball Court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1DA48-3AC7-4908-B5CB-7F395C0B3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5021A-4E24-4D66-A516-7DE3D3E96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33670-32DF-4656-8BC2-00382B7A2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E58F6-2C7E-4A87-B7F9-D6F78D2B1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6FC08E-E2DD-415C-9220-633643206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7EC71-55E0-4E20-B365-CB8CD03CF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2F44A-4787-43E3-8A39-0B9E1E521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E97C3-577A-4A7A-9DA2-B96D9535A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8FD37-A2DC-40D2-B6B3-B8B6073F2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45133-63C5-4D2A-B83E-E9DD56C70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DAFDC-9877-40E0-94C1-5C67959A0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84D15-9FF2-471A-A435-05F99AE62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27EC2-2315-4C38-88AE-B3EE008D7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F4C58-5C93-4D23-95BA-5199FCBFF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3EF2E-CA83-495A-AB4A-37D923359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591DE-512A-4F4E-9E83-EA63C5C545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7B01A9-EFCC-4A33-9219-953E9CE868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B1D78-9020-4036-930F-34BB16A1D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3B37B-7F1D-43EE-AD89-067E229E9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8DAAE-04D7-4B56-9C87-2FAEAEC80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17FCF-AF36-4269-88AC-0723B9215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C122B-29B3-4E1D-992E-6621758FD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F033B-F64A-412E-8BA7-C1C38DE91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3A50D-40DD-48D6-A05B-4804F2295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3F7E-06D0-4D9D-BA57-3C631EFAAF3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DDD5-449F-43EE-BBEE-52DC727120B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761760"/>
            <a:ext cx="78026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Year 7 Curriculum Day</a:t>
            </a:r>
            <a:br>
              <a:rPr sz="4400"/>
            </a:br>
            <a:r>
              <a:rPr b="0" lang="en-US" sz="4400" spc="-1" strike="noStrike">
                <a:solidFill>
                  <a:srgbClr val="003366"/>
                </a:solidFill>
                <a:latin typeface="Times New Roman"/>
              </a:rPr>
              <a:t>Tuesday 10</a:t>
            </a:r>
            <a:r>
              <a:rPr b="0" lang="en-US" sz="4400" spc="-1" strike="noStrike" baseline="30000">
                <a:solidFill>
                  <a:srgbClr val="003366"/>
                </a:solidFill>
                <a:latin typeface="Times New Roman"/>
              </a:rPr>
              <a:t>th</a:t>
            </a:r>
            <a:r>
              <a:rPr b="0" lang="en-US" sz="4400" spc="-1" strike="noStrike">
                <a:solidFill>
                  <a:srgbClr val="003366"/>
                </a:solidFill>
                <a:latin typeface="Times New Roman"/>
              </a:rPr>
              <a:t> October 2006</a:t>
            </a:r>
            <a:endParaRPr b="0" lang="en-US" sz="4400" spc="-1" strike="noStrike">
              <a:solidFill>
                <a:srgbClr val="003366"/>
              </a:solidFill>
              <a:latin typeface="Times New Roman"/>
            </a:endParaRPr>
          </a:p>
        </p:txBody>
      </p:sp>
      <p:sp>
        <p:nvSpPr>
          <p:cNvPr id="135" name=""/>
          <p:cNvSpPr/>
          <p:nvPr/>
        </p:nvSpPr>
        <p:spPr>
          <a:xfrm>
            <a:off x="3124080" y="3886200"/>
            <a:ext cx="3581640" cy="764280"/>
          </a:xfrm>
          <a:prstGeom prst="rect">
            <a:avLst/>
          </a:prstGeom>
          <a:noFill/>
          <a:ln w="9360">
            <a:solidFill>
              <a:srgbClr val="0099cc"/>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am-building</a:t>
            </a:r>
            <a:endParaRPr b="0" lang="en-US" sz="4400" spc="-1" strike="noStrike">
              <a:solidFill>
                <a:srgbClr val="000000"/>
              </a:solidFill>
              <a:latin typeface="Times New Roman"/>
            </a:endParaRPr>
          </a:p>
        </p:txBody>
      </p:sp>
      <p:sp>
        <p:nvSpPr>
          <p:cNvPr id="136" name=""/>
          <p:cNvSpPr/>
          <p:nvPr/>
        </p:nvSpPr>
        <p:spPr>
          <a:xfrm>
            <a:off x="1523880" y="2895480"/>
            <a:ext cx="2590920" cy="459720"/>
          </a:xfrm>
          <a:prstGeom prst="rect">
            <a:avLst/>
          </a:prstGeom>
          <a:noFill/>
          <a:ln w="9360">
            <a:solidFill>
              <a:srgbClr val="0099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togeth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7" name=""/>
          <p:cNvSpPr/>
          <p:nvPr/>
        </p:nvSpPr>
        <p:spPr>
          <a:xfrm>
            <a:off x="1828800" y="5257800"/>
            <a:ext cx="2514600" cy="459720"/>
          </a:xfrm>
          <a:prstGeom prst="rect">
            <a:avLst/>
          </a:prstGeom>
          <a:noFill/>
          <a:ln w="9360">
            <a:solidFill>
              <a:srgbClr val="0099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lving</a:t>
            </a:r>
            <a:endParaRPr b="0" lang="en-US" sz="2400" spc="-1" strike="noStrike">
              <a:solidFill>
                <a:srgbClr val="000000"/>
              </a:solidFill>
              <a:latin typeface="Times New Roman"/>
            </a:endParaRPr>
          </a:p>
        </p:txBody>
      </p:sp>
      <p:sp>
        <p:nvSpPr>
          <p:cNvPr id="138" name=""/>
          <p:cNvSpPr/>
          <p:nvPr/>
        </p:nvSpPr>
        <p:spPr>
          <a:xfrm>
            <a:off x="5410080" y="2819520"/>
            <a:ext cx="2667240" cy="459720"/>
          </a:xfrm>
          <a:prstGeom prst="rect">
            <a:avLst/>
          </a:prstGeom>
          <a:noFill/>
          <a:ln w="9360">
            <a:solidFill>
              <a:srgbClr val="0099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ng challenges</a:t>
            </a:r>
            <a:endParaRPr b="0" lang="en-US" sz="2400" spc="-1" strike="noStrike">
              <a:solidFill>
                <a:srgbClr val="000000"/>
              </a:solidFill>
              <a:latin typeface="Times New Roman"/>
            </a:endParaRPr>
          </a:p>
        </p:txBody>
      </p:sp>
      <p:sp>
        <p:nvSpPr>
          <p:cNvPr id="139" name=""/>
          <p:cNvSpPr/>
          <p:nvPr/>
        </p:nvSpPr>
        <p:spPr>
          <a:xfrm>
            <a:off x="6172200" y="5334120"/>
            <a:ext cx="2514600" cy="459720"/>
          </a:xfrm>
          <a:prstGeom prst="rect">
            <a:avLst/>
          </a:prstGeom>
          <a:noFill/>
          <a:ln w="9360">
            <a:solidFill>
              <a:srgbClr val="0099c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ing fun</a:t>
            </a:r>
            <a:endParaRPr b="0" lang="en-US" sz="2400" spc="-1" strike="noStrike">
              <a:solidFill>
                <a:srgbClr val="000000"/>
              </a:solidFill>
              <a:latin typeface="Times New Roman"/>
            </a:endParaRPr>
          </a:p>
        </p:txBody>
      </p:sp>
      <p:sp>
        <p:nvSpPr>
          <p:cNvPr id="140" name=""/>
          <p:cNvSpPr/>
          <p:nvPr/>
        </p:nvSpPr>
        <p:spPr>
          <a:xfrm flipH="1" flipV="1">
            <a:off x="2286000" y="3352680"/>
            <a:ext cx="838080" cy="5335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3048120" y="4648320"/>
            <a:ext cx="761760" cy="60948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5410080" y="3276360"/>
            <a:ext cx="685800" cy="60948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638680" y="4648320"/>
            <a:ext cx="533520" cy="7617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hysical Challenge 1 </a:t>
            </a:r>
            <a:br>
              <a:rPr sz="4400"/>
            </a:br>
            <a:r>
              <a:rPr b="0" lang="en-US" sz="4400" spc="-1" strike="noStrike">
                <a:solidFill>
                  <a:srgbClr val="003366"/>
                </a:solidFill>
                <a:latin typeface="Times New Roman"/>
              </a:rPr>
              <a:t>Orienteering</a:t>
            </a:r>
            <a:endParaRPr b="0" lang="en-US" sz="4400" spc="-1" strike="noStrike">
              <a:solidFill>
                <a:srgbClr val="003366"/>
              </a:solidFill>
              <a:latin typeface="Times New Roman"/>
            </a:endParaRPr>
          </a:p>
        </p:txBody>
      </p:sp>
      <p:sp>
        <p:nvSpPr>
          <p:cNvPr id="16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You will work with a partner to find your way around the school site. </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sing a map, you will find the controls (marked as a red circle on your maps). At each control there will be a question to answer. </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You must write down the answer on your sheet next to the correct num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hysical Challenge 2</a:t>
            </a:r>
            <a:br>
              <a:rPr sz="4400"/>
            </a:br>
            <a:r>
              <a:rPr b="0" lang="en-US" sz="4400" spc="-1" strike="noStrike">
                <a:solidFill>
                  <a:srgbClr val="003366"/>
                </a:solidFill>
                <a:latin typeface="Times New Roman"/>
              </a:rPr>
              <a:t>Get knotted!</a:t>
            </a:r>
            <a:endParaRPr b="0" lang="en-US" sz="4400" spc="-1" strike="noStrike">
              <a:solidFill>
                <a:srgbClr val="003366"/>
              </a:solidFill>
              <a:latin typeface="Times New Roman"/>
            </a:endParaRPr>
          </a:p>
        </p:txBody>
      </p:sp>
      <p:sp>
        <p:nvSpPr>
          <p:cNvPr id="16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r group will split into 4 equal team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ach team will be given a short length of rope.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r task is to tie as many knots in the rope as you can in one minute. After that time you will swap your rope with another team.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challenge is to see which team can untie all the knots in their rope fir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hysical Challenge 3</a:t>
            </a:r>
            <a:br>
              <a:rPr sz="4400"/>
            </a:br>
            <a:r>
              <a:rPr b="0" lang="en-US" sz="4400" spc="-1" strike="noStrike">
                <a:solidFill>
                  <a:srgbClr val="003366"/>
                </a:solidFill>
                <a:latin typeface="Times New Roman"/>
              </a:rPr>
              <a:t>Group Sit</a:t>
            </a:r>
            <a:endParaRPr b="0" lang="en-US" sz="4400" spc="-1" strike="noStrike">
              <a:solidFill>
                <a:srgbClr val="003366"/>
              </a:solidFill>
              <a:latin typeface="Times New Roman"/>
            </a:endParaRPr>
          </a:p>
        </p:txBody>
      </p:sp>
      <p:sp>
        <p:nvSpPr>
          <p:cNvPr id="16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 group should stand in a circl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veryone needs to turn so they are facing the same way.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n the word ‘Go’, everyone sits on the knees of the person behind them.</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You need to work together, otherwise, you’ll fall o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hysical Challenge 4</a:t>
            </a:r>
            <a:br>
              <a:rPr sz="4400"/>
            </a:br>
            <a:r>
              <a:rPr b="0" lang="en-US" sz="4400" spc="-1" strike="noStrike">
                <a:solidFill>
                  <a:srgbClr val="003366"/>
                </a:solidFill>
                <a:latin typeface="Times New Roman"/>
              </a:rPr>
              <a:t>Hoop Race</a:t>
            </a:r>
            <a:endParaRPr b="0" lang="en-US" sz="4400" spc="-1" strike="noStrike">
              <a:solidFill>
                <a:srgbClr val="003366"/>
              </a:solidFill>
              <a:latin typeface="Times New Roman"/>
            </a:endParaRPr>
          </a:p>
        </p:txBody>
      </p:sp>
      <p:sp>
        <p:nvSpPr>
          <p:cNvPr id="16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r group will be split into two equal teams.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ach team will be given a hoop.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rm a circle and hold hands. One pair lets go and has a hoop placed over one arm before joining hands again.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challenge is to move the hoop around the circle without any person letting go of the hand they are holdin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r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hysical Challenge 5</a:t>
            </a:r>
            <a:br>
              <a:rPr sz="4400"/>
            </a:br>
            <a:r>
              <a:rPr b="0" lang="en-US" sz="4400" spc="-1" strike="noStrike">
                <a:solidFill>
                  <a:srgbClr val="003366"/>
                </a:solidFill>
                <a:latin typeface="Times New Roman"/>
              </a:rPr>
              <a:t>Rope Run</a:t>
            </a:r>
            <a:endParaRPr b="0" lang="en-US" sz="4400" spc="-1" strike="noStrike">
              <a:solidFill>
                <a:srgbClr val="003366"/>
              </a:solidFill>
              <a:latin typeface="Times New Roman"/>
            </a:endParaRPr>
          </a:p>
        </p:txBody>
      </p:sp>
      <p:sp>
        <p:nvSpPr>
          <p:cNvPr id="16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wo people need to turn the rop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ach member of the group takes it in turn to run under the rope whilst it’s turning to the other side.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n do this in pairs, linking hand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n in 4’s, 8’s and then the whole group.</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nsider how you are going to get everyone to run at the same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blem-Solving Challenge 1</a:t>
            </a:r>
            <a:br>
              <a:rPr sz="4400"/>
            </a:br>
            <a:r>
              <a:rPr b="0" lang="en-US" sz="4400" spc="-1" strike="noStrike">
                <a:solidFill>
                  <a:srgbClr val="003366"/>
                </a:solidFill>
                <a:latin typeface="Times New Roman"/>
              </a:rPr>
              <a:t>Radioactive Isotopes</a:t>
            </a:r>
            <a:endParaRPr b="0" lang="en-US" sz="4400" spc="-1" strike="noStrike">
              <a:solidFill>
                <a:srgbClr val="003366"/>
              </a:solidFill>
              <a:latin typeface="Times New Roman"/>
            </a:endParaRPr>
          </a:p>
        </p:txBody>
      </p:sp>
      <p:sp>
        <p:nvSpPr>
          <p:cNvPr id="14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 the centre of the circle is a silver bucket containing deadly radioactive isotopes.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 must work as a team to lift the bucket and tip the isotopes into the black safety bucket.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 are not allowed to enter the radioactive zone (marked out) so the only way you can lift and tip the bucket is to use the ropes attach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blem-Solving Challenge 2</a:t>
            </a:r>
            <a:br>
              <a:rPr sz="4400"/>
            </a:br>
            <a:r>
              <a:rPr b="0" lang="en-US" sz="4400" spc="-1" strike="noStrike">
                <a:solidFill>
                  <a:srgbClr val="003366"/>
                </a:solidFill>
                <a:latin typeface="Times New Roman"/>
              </a:rPr>
              <a:t>Leaky pipe</a:t>
            </a: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y in your 2 team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fill your bucket with water.</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eam will have a pipe with a table tennis ball inside. You must work as a team to fill the pipe with water and collect the ball from the top.</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ill be a short distance between the pipe and the bucket.</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not tip the pipe upside do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blem-Solving Challenge 3</a:t>
            </a:r>
            <a:br>
              <a:rPr sz="4400"/>
            </a:br>
            <a:r>
              <a:rPr b="0" lang="en-US" sz="4400" spc="-1" strike="noStrike">
                <a:solidFill>
                  <a:srgbClr val="003366"/>
                </a:solidFill>
                <a:latin typeface="Times New Roman"/>
              </a:rPr>
              <a:t>Cross The Swamp</a:t>
            </a:r>
            <a:endParaRPr b="0" lang="en-US" sz="4400" spc="-1" strike="noStrike">
              <a:solidFill>
                <a:srgbClr val="003366"/>
              </a:solidFill>
              <a:latin typeface="Times New Roman"/>
            </a:endParaRPr>
          </a:p>
        </p:txBody>
      </p:sp>
      <p:sp>
        <p:nvSpPr>
          <p:cNvPr id="14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Your group will split up into two teams. </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team will be given equipment that they can use to get themselves across the poisonous swamp. </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team must work together to ensure that every member of the team gets safely across, and that all the equipment gets across too. </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ilst crossing the swamp you must follow these rules: you cannot throw equipment on the floor (it will be taken off you) and members of your team must not allow any part of their body to touch the floor (the whole team will have to start again if this happe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blem-Solving Challenge 4</a:t>
            </a:r>
            <a:br>
              <a:rPr sz="4400"/>
            </a:br>
            <a:r>
              <a:rPr b="0" lang="en-US" sz="4400" spc="-1" strike="noStrike">
                <a:solidFill>
                  <a:srgbClr val="003366"/>
                </a:solidFill>
                <a:latin typeface="Times New Roman"/>
              </a:rPr>
              <a:t>Line Up</a:t>
            </a: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group needs to split into three equal team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eam will have a bench. They should stand on the bench and then follow the leader’s instruction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one can step down off the bench until they have completed the ta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mmunication Challenge 1</a:t>
            </a:r>
            <a:br>
              <a:rPr sz="4400"/>
            </a:br>
            <a:r>
              <a:rPr b="0" lang="en-US" sz="4400" spc="-1" strike="noStrike">
                <a:solidFill>
                  <a:srgbClr val="003366"/>
                </a:solidFill>
                <a:latin typeface="Times New Roman"/>
              </a:rPr>
              <a:t>Centipede</a:t>
            </a:r>
            <a:endParaRPr b="0" lang="en-US" sz="4400" spc="-1" strike="noStrike">
              <a:solidFill>
                <a:srgbClr val="003366"/>
              </a:solidFill>
              <a:latin typeface="Times New Roman"/>
            </a:endParaRPr>
          </a:p>
        </p:txBody>
      </p:sp>
      <p:sp>
        <p:nvSpPr>
          <p:cNvPr id="15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The group will be split into teams of 4. </a:t>
            </a:r>
            <a:endParaRPr b="0" lang="en-US" sz="3000" spc="-1" strike="noStrike">
              <a:solidFill>
                <a:srgbClr val="000000"/>
              </a:solidFill>
              <a:latin typeface="Arial"/>
            </a:endParaRPr>
          </a:p>
          <a:p>
            <a:pPr marL="343080" indent="-343080">
              <a:lnSpc>
                <a:spcPct val="90000"/>
              </a:lnSpc>
              <a:spcBef>
                <a:spcPts val="7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Each team will have 2 planks that have ropes tied to them. </a:t>
            </a:r>
            <a:endParaRPr b="0" lang="en-US" sz="3000" spc="-1" strike="noStrike">
              <a:solidFill>
                <a:srgbClr val="000000"/>
              </a:solidFill>
              <a:latin typeface="Arial"/>
            </a:endParaRPr>
          </a:p>
          <a:p>
            <a:pPr marL="343080" indent="-343080">
              <a:lnSpc>
                <a:spcPct val="90000"/>
              </a:lnSpc>
              <a:spcBef>
                <a:spcPts val="7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The challenge is to have every member of the team standing with one foot on each plank, and then to walk as a team to the finish line.</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member of the team may touch the flo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mmunication Challenge 2</a:t>
            </a:r>
            <a:br>
              <a:rPr sz="4400"/>
            </a:br>
            <a:r>
              <a:rPr b="0" lang="en-US" sz="4400" spc="-1" strike="noStrike">
                <a:solidFill>
                  <a:srgbClr val="003366"/>
                </a:solidFill>
                <a:latin typeface="Times New Roman"/>
              </a:rPr>
              <a:t>Blindfold Obstacle Course</a:t>
            </a: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is challenge, you will work in pair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you will be blindfolded. Your partner must lead you safely around the cours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st you are leading think about the type of communication you are u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mmunication Challenge 3</a:t>
            </a:r>
            <a:br>
              <a:rPr sz="4400"/>
            </a:br>
            <a:r>
              <a:rPr b="0" lang="en-US" sz="4400" spc="-1" strike="noStrike">
                <a:solidFill>
                  <a:srgbClr val="003366"/>
                </a:solidFill>
                <a:latin typeface="Times New Roman"/>
              </a:rPr>
              <a:t>Call your partner</a:t>
            </a:r>
            <a:endParaRPr b="0" lang="en-US" sz="4400" spc="-1" strike="noStrike">
              <a:solidFill>
                <a:srgbClr val="003366"/>
              </a:solidFill>
              <a:latin typeface="Times New Roman"/>
            </a:endParaRPr>
          </a:p>
        </p:txBody>
      </p:sp>
      <p:sp>
        <p:nvSpPr>
          <p:cNvPr id="1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group will split into pair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pair will be blindfolded.</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appropriate and agreed on communication, you need to direct your partner towards you.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partner cannot take off their blindfold until they reach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mmunication Challenge 4</a:t>
            </a:r>
            <a:br>
              <a:rPr sz="4400"/>
            </a:br>
            <a:r>
              <a:rPr b="0" lang="en-US" sz="4400" spc="-1" strike="noStrike">
                <a:solidFill>
                  <a:srgbClr val="003366"/>
                </a:solidFill>
                <a:latin typeface="Times New Roman"/>
              </a:rPr>
              <a:t>Square Dance</a:t>
            </a:r>
            <a:endParaRPr b="0" lang="en-US" sz="4400" spc="-1" strike="noStrike">
              <a:solidFill>
                <a:srgbClr val="003366"/>
              </a:solidFill>
              <a:latin typeface="Times New Roman"/>
            </a:endParaRPr>
          </a:p>
        </p:txBody>
      </p:sp>
      <p:sp>
        <p:nvSpPr>
          <p:cNvPr id="1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r group will work together on this challeng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ach member of the group will be blindfolded and asked to hold on to part of a long rope.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ithout removing your blindfolds, you need to organise yourselves into a square.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en you think you’ve finished, lay the rope on the floor and take off your blindfol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4:52:32Z</dcterms:created>
  <dc:creator>emma smith</dc:creator>
  <dc:description/>
  <dc:language>en-US</dc:language>
  <cp:lastModifiedBy>E Smith</cp:lastModifiedBy>
  <dcterms:modified xsi:type="dcterms:W3CDTF">2006-09-22T14:51:44Z</dcterms:modified>
  <cp:revision>7</cp:revision>
  <dc:subject/>
  <dc:title>Challenge 1 Radioactive Isotopes</dc:title>
</cp:coreProperties>
</file>