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32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9B9-77F6-447E-892D-06B7D965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FB4-6588-4C59-8197-CBB6AC1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8E4-9E76-4BAC-80E0-A5BDFE75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8128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12520"/>
            <a:ext cx="294408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347-C361-4578-8024-E7BBA337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78F-376B-4FEE-97E4-EAADFFF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57B-3AB3-492F-8054-624917A3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D7F-AD6A-4DFE-8EAF-53C3C25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129-AACE-4AD1-9AF4-68146C15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6360"/>
            <a:ext cx="9144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185-1D32-4AC4-A522-5674C9BB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1C3-9258-4A4E-8653-A9EFBF0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1252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97F-8E99-4F6C-BF96-C53F8D6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81280"/>
            <a:ext cx="44622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12520"/>
            <a:ext cx="9144000" cy="240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B07-DA26-4B4C-8BD0-FAF664FB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636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128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07364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07364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919-0868-4DCB-A802-8FD9A4E95B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06440" y="1270080"/>
            <a:ext cx="988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Kristen ITC - 24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 - 24"/>
              </a:rPr>
              <a:t>1. To consolidate the understanding of argue, persuade, ad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 - 24"/>
              </a:rPr>
              <a:t>2. To begin utilising arguing and persuasive skills in team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399960" y="93672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bbc.co.uk/learningzone/clips/a-good-example-of-pitching-on-dragons-den/11714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42880" y="2664000"/>
            <a:ext cx="50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youtube.com/watch?v=hCPg5mI1P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15960" y="2521080"/>
            <a:ext cx="50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agons Den - Caleb and Lars Pitch Liquid Hot Chocolate - Christmas Special S6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ipboard(6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920" y="-63360"/>
            <a:ext cx="10029960" cy="5483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438280" y="38160"/>
            <a:ext cx="56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300"/>
                </a:solidFill>
                <a:latin typeface="Showcard Gothic - 16"/>
              </a:rPr>
              <a:t>Dragons' 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66760" y="5076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0000"/>
                </a:solidFill>
                <a:uFillTx/>
                <a:latin typeface="Times New Roman - 16"/>
              </a:rPr>
              <a:t>Tas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71600" y="129528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Your team must design a product that is the next money-making sche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sider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ng consumers want these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companies/shops do you purchas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s there one 'hot' company product today? How do you think they became the most in-demand produ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have any unique product ideas for unmet custome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lipboard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01040" y="5329080"/>
            <a:ext cx="2144520" cy="1832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471600" y="541656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1.Create 2 mind maps: one to identify the main shops/ compa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and one to identify popula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2. Create a list of product ideas for your own compa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99960" y="0"/>
            <a:ext cx="90932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Showcard Gothic - 72"/>
              </a:rPr>
              <a:t>Market Resear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irst, your team is to create at least ten questions to help to persuade the dragons that children will want to buy th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omic Sans MS"/>
              </a:rPr>
              <a:t>Thin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omic Sans MS"/>
              </a:rPr>
              <a:t>Finding out your audiences intere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omic Sans MS"/>
              </a:rPr>
              <a:t>Asking questions directly related to your product ideas e.g. Would you ever need/use….? If you purchased a…. what features would you like it to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Comic Sans MS"/>
              </a:rPr>
              <a:t>The colour, materials, design of you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Deliver your questionnaire  to another team. Don’t forget to take no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99960" y="360360"/>
            <a:ext cx="90932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Showcard Gothic - 72"/>
              </a:rPr>
              <a:t>Company n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sinesses have to establish an identity for themselves in order to be set apart from competing companies. That means that they have to create a catchy company name and lo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99960" y="3478320"/>
            <a:ext cx="892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Within your team, brainstorm a list of names for the company you are working for.  Your teacher will review how to conduct your 'brainstorm,' using these common rules (see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Collect as many ideas as possible from every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All ideas are l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Do not judge or criticize any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Build upon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After your team has brainstormed a list of potential names for your company's sub-division, vote on one for your t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99960" y="360360"/>
            <a:ext cx="909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Showcard Gothic - 72"/>
              </a:rPr>
              <a:t>Company lo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, think about all the products or companies that you can think of that have instant recognition from a name or lo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99960" y="3478320"/>
            <a:ext cx="892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omic Sans MS"/>
              </a:rPr>
              <a:t>Within your team design an eye catching logo for your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99960" y="360360"/>
            <a:ext cx="90932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Showcard Gothic - 72"/>
              </a:rPr>
              <a:t>As a team select your companies produc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558ed5"/>
                </a:solidFill>
                <a:latin typeface="Showcard Gothic - 72"/>
              </a:rPr>
              <a:t>Produce a labelled drawing of your product based on your questionnaire findin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542880" y="72072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Produce a costing sheet, including the cost of market research, materials, packaging and marketing, as well as the recommended retail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19240" y="2232000"/>
          <a:ext cx="6985080" cy="3948120"/>
        </p:xfrm>
        <a:graphic>
          <a:graphicData uri="http://schemas.openxmlformats.org/drawingml/2006/table">
            <a:tbl>
              <a:tblPr/>
              <a:tblGrid>
                <a:gridCol w="1746360"/>
                <a:gridCol w="1746000"/>
                <a:gridCol w="1746360"/>
                <a:gridCol w="174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/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15 per h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co powd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p per sach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r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k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p per 100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p per sach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: TV adv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250per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: Magazine weekly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25per 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£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6" name="Rectangle 4" descr=""/>
          <p:cNvPicPr/>
          <p:nvPr/>
        </p:nvPicPr>
        <p:blipFill>
          <a:blip r:embed="rId1"/>
          <a:stretch/>
        </p:blipFill>
        <p:spPr>
          <a:xfrm>
            <a:off x="646200" y="6188040"/>
            <a:ext cx="8746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26880" y="36036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Your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f81bd"/>
                </a:solidFill>
                <a:latin typeface="Comic Sans MS"/>
              </a:rPr>
              <a:t>Watch this Dragon’s Den pitch. Make notes on any of the persuasive techniques you 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65760" y="4896000"/>
            <a:ext cx="974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Plan for and write a persuasive piece to sell your pro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to the Drag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Remember to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Your company name and logo, your product design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purpose, any costing and back it up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arket resear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2:05:20Z</dcterms:created>
  <dc:creator>jms</dc:creator>
  <dc:description/>
  <dc:language>en-US</dc:language>
  <cp:lastModifiedBy> </cp:lastModifiedBy>
  <dcterms:modified xsi:type="dcterms:W3CDTF">2012-10-08T13:53:48Z</dcterms:modified>
  <cp:revision>33</cp:revision>
  <dc:subject/>
  <dc:title>Slide 1</dc:title>
</cp:coreProperties>
</file>